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096-F238-4A90-89CD-6D4B494B6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5DE-5D19-4C8A-9F64-7C439E055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FE2B-5B7D-41EE-93A2-CFAF1458D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s the results of several studies that address a set of related research 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s true “effect siz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if the results are more varied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follows the rules of hard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for generalization to the population of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ly statistical examination of scientific studies, not an actual scientific study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for between-study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bias are not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higher statistical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vy reliance on published studies, which may create exagger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mpson’s Parado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wo smaller studies may point in one direction, and the combination study in the opposite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stimate the true “effect size” as opposed to a smaller “effect size” derived in a single study under a single set of assumptions and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889-1595-4D66-8158-C78E9E386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:20-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0C62-EE9A-467D-A6ED-BB7143813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be our baseline- it could also possibly used as a pre-test.  In a real experiment, you would do this repetitively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oups in real-life should be randomly assigned as much as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real world, you may want to do your experiment several times depending on your resear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8344-09EF-4BCE-BFAD-713A88E5B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ime constraints we are collecting ordinal data (greater than, less than, or stays the same); otherwise, we would be collecting quantitative data using a ratio scale (absolute 0- no heart beat and in equal incre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 is affected by monitor sensitivity, and reliability may be affected by the individuals ability to take the measurement using the moni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5E5-A21A-4FD6-AB43-E5D6CEB1E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al group - did squat j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group - remained s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 - activity/exercise (seated vs. squat jump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variable - measured/observed heart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ounding variable - heart size, individual endurance, recovery rate ability, intensity of exercise/effort (squat jump/sit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B576-2660-4467-8230-2A0C864C6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andomly assign participants to two groups: experimental group and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889D-D606-4420-B01F-B4366BDB6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64D-B59F-43FC-AAFC-7DD956CE1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39F-0C04-4534-B2CC-322AFC0EB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- quality/characteristic in a research investigation that may have more than 2 possi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exercise: running, lifting weights, 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B98E-6813-4047-91DC-3AAD51437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or cofounding variable, add food items to the pictures i.e. McDonald’s for the no pill group and salad for the placebo group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AD1F-C600-456D-B5DB-1D67DD300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founding variable (i.e. add Lexile scores and IQ patterns to each group to each group)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C84-24A6-4D90-B443-52AB655FC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ep some thing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actor remains the same for all test participants, it can easily be excluded as a reason for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s no intervention and is used to compare performance against the experiment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ndomly assign people to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ake into account variables that cannot be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equivalence before the treatment with pre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when random assignment of groups is not possible. Could also 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hed pai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ich is finding pairs of subjects, one form each of the two groups, to comp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ose participants to all experimental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study participants are subject to all experimental and control treatments of the experiment. Treatments are assessed independ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istically control for confounding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ling for known variables through statistical techniq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D38-1F95-4551-9682-3C58E021A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B80-FAA0-4C4E-BF1F-9109BEC2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2CA-C391-49F9-B6CE-59630F1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57A-86BF-4ADB-8452-3BF00C3C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7AD-8125-40CF-9D94-D4457D10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4D9-0E79-457B-A77A-FBA8458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7E7-ECA8-48E3-BB39-47F6D723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80B-C19B-4F96-B20A-43D1540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521-54C6-4D42-A970-E5A5BA7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6CE-7D69-4C75-ABD6-A8B99002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E3E-9B50-4C57-B607-ED03C334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13F-2997-404E-965D-A618372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019-DCB2-4BD6-B6CE-7F98F8C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C95A-E755-4347-A6D7-DE3DFE073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228600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Carringt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erie Na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Nerb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hleen Olewinsk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nya Wojciechowicz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44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chive.computerhistory.org/resources/still-image/Claude_Shannon/claude_shannon.mouse_in_maze.102630790.lg.jpg"/>
          <p:cNvPicPr/>
          <p:nvPr/>
        </p:nvPicPr>
        <p:blipFill>
          <a:blip r:embed="rId1"/>
          <a:stretch/>
        </p:blipFill>
        <p:spPr>
          <a:xfrm>
            <a:off x="228600" y="1676520"/>
            <a:ext cx="4505400" cy="4762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5731560" y="63244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740,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table 10.1 #1.jpg"/>
          <p:cNvPicPr/>
          <p:nvPr/>
        </p:nvPicPr>
        <p:blipFill>
          <a:blip r:embed="rId1"/>
          <a:stretch/>
        </p:blipFill>
        <p:spPr>
          <a:xfrm>
            <a:off x="762120" y="-2743200"/>
            <a:ext cx="7446960" cy="10240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62120" y="-228600"/>
            <a:ext cx="7467480" cy="914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Table 10.1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43-24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table 10.1 #2.jpg"/>
          <p:cNvPicPr/>
          <p:nvPr/>
        </p:nvPicPr>
        <p:blipFill>
          <a:blip r:embed="rId1"/>
          <a:stretch/>
        </p:blipFill>
        <p:spPr>
          <a:xfrm>
            <a:off x="1828800" y="-868320"/>
            <a:ext cx="5867280" cy="80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table 10.1 #3.jpg"/>
          <p:cNvPicPr/>
          <p:nvPr/>
        </p:nvPicPr>
        <p:blipFill>
          <a:blip r:embed="rId1"/>
          <a:stretch/>
        </p:blipFill>
        <p:spPr>
          <a:xfrm>
            <a:off x="0" y="1447920"/>
            <a:ext cx="9607680" cy="132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Experiment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-Experimental Design: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orming a tentative hypothesis that should be followed up with more controlled studies” (p. 229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ue Experimental Desig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ministering different treatments to a single group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Quasi-Experimental Desig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s the variables that researchers are unable to control and cannot rule out as alternative explanation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t0.gstatic.com/images?q=tbn:ANd9GcT3g1-TMzG5_J8Zp3sZR8-R61LGOp7FXC5QwsnWaaVPxNEGrBs&amp;t=1&amp;usg=__EBh4-N5qZ-HIR7HF-ZFuTdPDYP0="/>
          <p:cNvPicPr/>
          <p:nvPr/>
        </p:nvPicPr>
        <p:blipFill>
          <a:blip r:embed="rId1"/>
          <a:stretch/>
        </p:blipFill>
        <p:spPr>
          <a:xfrm>
            <a:off x="5410080" y="3048120"/>
            <a:ext cx="289584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accountingweb.com/files/siftmedia-accountingwebus/images/hypodermic-needle01.jpg"/>
          <p:cNvPicPr/>
          <p:nvPr/>
        </p:nvPicPr>
        <p:blipFill>
          <a:blip r:embed="rId2"/>
          <a:stretch/>
        </p:blipFill>
        <p:spPr>
          <a:xfrm>
            <a:off x="533520" y="3048120"/>
            <a:ext cx="2778120" cy="20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axisoflogic.com/artman/uploads/1/Garifuna_Community_Hospital_doctor_patient.JPG"/>
          <p:cNvPicPr/>
          <p:nvPr/>
        </p:nvPicPr>
        <p:blipFill>
          <a:blip r:embed="rId3"/>
          <a:stretch/>
        </p:blipFill>
        <p:spPr>
          <a:xfrm>
            <a:off x="3276720" y="3048120"/>
            <a:ext cx="2139840" cy="208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5228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-Post-Fact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fa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419720" y="152388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termine if causality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esearcher “studies the possible effect of an environmental factor that has occurred prior to the study itself” (p. 2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http://t0.gstatic.com/images?q=tbn:ANd9GcSpCQFclAw5zDW1g2k0Ef0H9kE6sgRuy3HWPKJPhYov1bqVGEs&amp;t=1&amp;usg=__YQg57NISQUdV_wouVz0KNojY3LU="/>
          <p:cNvPicPr/>
          <p:nvPr/>
        </p:nvPicPr>
        <p:blipFill>
          <a:blip r:embed="rId1"/>
          <a:stretch/>
        </p:blipFill>
        <p:spPr>
          <a:xfrm>
            <a:off x="228600" y="1295280"/>
            <a:ext cx="3646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-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ttp://www.sectorfej.net/wp-content/uploads/2010/06/paper-mess-300x299.jpg"/>
          <p:cNvPicPr/>
          <p:nvPr/>
        </p:nvPicPr>
        <p:blipFill>
          <a:blip r:embed="rId1"/>
          <a:stretch/>
        </p:blipFill>
        <p:spPr>
          <a:xfrm>
            <a:off x="2057400" y="9907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0" y="5943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s the results of sever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ics and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sible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ed Con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, Harmon,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www.nytimes.com/2010/04/25/weekinreview/25harmon.html?_r=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 Subject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Ab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RB Approval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ation/Pee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laborative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UK-PRI Hit Squad"/>
          <p:cNvPicPr/>
          <p:nvPr/>
        </p:nvPicPr>
        <p:blipFill>
          <a:blip r:embed="rId1"/>
          <a:stretch/>
        </p:blipFill>
        <p:spPr>
          <a:xfrm>
            <a:off x="5410080" y="2590920"/>
            <a:ext cx="3330720" cy="384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0" y="6477120"/>
            <a:ext cx="95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Kathy\Pictures\DNA Research Consent.jpg"/>
          <p:cNvPicPr/>
          <p:nvPr/>
        </p:nvPicPr>
        <p:blipFill>
          <a:blip r:embed="rId2"/>
          <a:stretch/>
        </p:blipFill>
        <p:spPr>
          <a:xfrm>
            <a:off x="6324480" y="971640"/>
            <a:ext cx="25146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328760"/>
          <a:ext cx="7924680" cy="53006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ened experimental 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s in app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disciplinary; new knowledge 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ility and accoun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 of new research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ical 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tise, methodology and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li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s and other funding o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losing potential conflicts of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Experi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123heartdiseasecenter.com/images/heart-beat.gif"/>
          <p:cNvPicPr/>
          <p:nvPr/>
        </p:nvPicPr>
        <p:blipFill>
          <a:blip r:embed="rId1"/>
          <a:stretch/>
        </p:blipFill>
        <p:spPr>
          <a:xfrm>
            <a:off x="4929120" y="5105520"/>
            <a:ext cx="421488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quat jumps change instantaneous hear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resting heart 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in the </a:t>
            </a:r>
            <a:r>
              <a:rPr b="0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LU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remain seated without moving as much as possible.  If you are in the </a:t>
            </a:r>
            <a:r>
              <a:rPr b="0" lang="en-US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ORANG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do as many squat jumps as fast as possible in the tim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f7964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458200" cy="4800600"/>
        </p:xfrm>
        <a:graphic>
          <a:graphicData uri="http://schemas.openxmlformats.org/drawingml/2006/table">
            <a:tbl>
              <a:tblPr/>
              <a:tblGrid>
                <a:gridCol w="2451240"/>
                <a:gridCol w="1892160"/>
                <a:gridCol w="2000160"/>
                <a:gridCol w="211464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In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De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Stayed the S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7720" y="4266720"/>
            <a:ext cx="76201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est cause-and-effect relationships between variab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4.bp.blogspot.com/_JLW41DVVv0A/ScungPrGT2I/AAAAAAAAAMg/X3eSNTkJoHE/S220/monkey_scratching_head-106x116.jpg"/>
          <p:cNvPicPr/>
          <p:nvPr/>
        </p:nvPicPr>
        <p:blipFill>
          <a:blip r:embed="rId1"/>
          <a:stretch/>
        </p:blipFill>
        <p:spPr>
          <a:xfrm>
            <a:off x="3352680" y="1523880"/>
            <a:ext cx="25146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identify the following from the heart rate monitor activit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experimented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NO treatment; NOT experimented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groups (often it is the treatment)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independent variable (is measured or observ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to the independent vari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80880" y="1600200"/>
            <a:ext cx="830592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, A. (2010, April 24).  Where’d you go with my DNA?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Times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nytim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/04/25/weekinreview/25harmon.html?_r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:  Plan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ig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).  Upper Saddle River, NJ:  Pears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97160"/>
          <a:ext cx="8534160" cy="5003640"/>
        </p:xfrm>
        <a:graphic>
          <a:graphicData uri="http://schemas.openxmlformats.org/drawingml/2006/table">
            <a:tbl>
              <a:tblPr/>
              <a:tblGrid>
                <a:gridCol w="2819160"/>
                <a:gridCol w="2870280"/>
                <a:gridCol w="2844720"/>
              </a:tblGrid>
              <a:tr h="25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al  (Treatment)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es in an intervention” 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experimented o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receives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oup that receives no intervention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experimented on and receives NO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66680" y="15228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952880" y="1522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838080" y="1447920"/>
            <a:ext cx="320040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4724280" y="1447920"/>
            <a:ext cx="3200400" cy="376560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6019920" y="2971800"/>
            <a:ext cx="4572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 flipV="1">
            <a:off x="6085800" y="3038400"/>
            <a:ext cx="323640" cy="3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0"/>
            <a:ext cx="4114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Silent Reading (S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2520" y="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sptimes.com/2007/05/03/images/large/ASecti_Housep_1584090.jpg"/>
          <p:cNvPicPr/>
          <p:nvPr/>
        </p:nvPicPr>
        <p:blipFill>
          <a:blip r:embed="rId1"/>
          <a:stretch/>
        </p:blipFill>
        <p:spPr>
          <a:xfrm>
            <a:off x="685800" y="14479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4640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Text Placeholder 3"/>
          <p:cNvSpPr/>
          <p:nvPr/>
        </p:nvSpPr>
        <p:spPr>
          <a:xfrm>
            <a:off x="0" y="5367240"/>
            <a:ext cx="9144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143000"/>
          <a:ext cx="8534520" cy="5454720"/>
        </p:xfrm>
        <a:graphic>
          <a:graphicData uri="http://schemas.openxmlformats.org/drawingml/2006/table">
            <a:tbl>
              <a:tblPr/>
              <a:tblGrid>
                <a:gridCol w="1997280"/>
                <a:gridCol w="3692520"/>
                <a:gridCol w="28447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that the researcher studies as a possible cause of something else -- in many cases, it is the one that the researcher directly manipulates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different or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chang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between groups. This is often the treatment or intervention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ariable that is potentially influenced by the independent variable… and so to some extent depends on the independent variable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measur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thought to be influenced by th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unding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s that two or more groups are or might be different in addition to the particular treatment or interven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en you have more than on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419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44792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876920" y="2286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1523880" y="1523880"/>
            <a:ext cx="233208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5075280" y="1550880"/>
            <a:ext cx="233208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Oval 8"/>
          <p:cNvSpPr/>
          <p:nvPr/>
        </p:nvSpPr>
        <p:spPr>
          <a:xfrm>
            <a:off x="6019920" y="2666880"/>
            <a:ext cx="304560" cy="333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095880" y="2716200"/>
            <a:ext cx="1843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oc.ucsb.edu/sexinfo/images/05-08-exercise.jpg"/>
          <p:cNvPicPr/>
          <p:nvPr/>
        </p:nvPicPr>
        <p:blipFill>
          <a:blip r:embed="rId3"/>
          <a:stretch/>
        </p:blipFill>
        <p:spPr>
          <a:xfrm>
            <a:off x="152280" y="3048120"/>
            <a:ext cx="1219320" cy="123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3.bp.blogspot.com/_vIyBRfK623E/S_nbVCkz9tI/AAAAAAAAAdU/kTfcasyUkRg/s1600/watching_tv.jpg"/>
          <p:cNvPicPr/>
          <p:nvPr/>
        </p:nvPicPr>
        <p:blipFill>
          <a:blip r:embed="rId4"/>
          <a:stretch/>
        </p:blipFill>
        <p:spPr>
          <a:xfrm>
            <a:off x="7543800" y="30481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forhealthlylife.com/wp-content/uploads/2010/05/eating-apple.jpg"/>
          <p:cNvPicPr/>
          <p:nvPr/>
        </p:nvPicPr>
        <p:blipFill>
          <a:blip r:embed="rId5"/>
          <a:stretch/>
        </p:blipFill>
        <p:spPr>
          <a:xfrm>
            <a:off x="1522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www.corbisimages.com/images/572/AA48288E-9FDE-47CF-BE91-47D92E675E68/CB101822.jpg"/>
          <p:cNvPicPr/>
          <p:nvPr/>
        </p:nvPicPr>
        <p:blipFill>
          <a:blip r:embed="rId6"/>
          <a:stretch/>
        </p:blipFill>
        <p:spPr>
          <a:xfrm>
            <a:off x="7696080" y="16002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www.seraphicpress.com/images/Scarlet%20letter.jpg"/>
          <p:cNvPicPr/>
          <p:nvPr/>
        </p:nvPicPr>
        <p:blipFill>
          <a:blip r:embed="rId1"/>
          <a:stretch/>
        </p:blipFill>
        <p:spPr>
          <a:xfrm>
            <a:off x="0" y="18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37160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581280" y="11916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886200" y="1371600"/>
            <a:ext cx="368316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ptimes.com/2007/05/03/images/large/ASecti_Housep_1584090.jpg"/>
          <p:cNvPicPr/>
          <p:nvPr/>
        </p:nvPicPr>
        <p:blipFill>
          <a:blip r:embed="rId3"/>
          <a:stretch/>
        </p:blipFill>
        <p:spPr>
          <a:xfrm>
            <a:off x="1600200" y="14479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scholastic.com/iphoneapps/images/clifford_lg.jpg"/>
          <p:cNvPicPr/>
          <p:nvPr/>
        </p:nvPicPr>
        <p:blipFill>
          <a:blip r:embed="rId4"/>
          <a:stretch/>
        </p:blipFill>
        <p:spPr>
          <a:xfrm>
            <a:off x="7696080" y="2209680"/>
            <a:ext cx="129852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Confounding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066680"/>
          <a:ext cx="8839440" cy="56390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112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: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 maximize internal validity  by ruling out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some things 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to assess equi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 a control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e participants to all experimental con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ly assign people to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ly control for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3:01:02Z</dcterms:created>
  <dc:creator>Valued Acer Customer</dc:creator>
  <dc:description/>
  <dc:language>en-US</dc:language>
  <cp:lastModifiedBy>Kathy</cp:lastModifiedBy>
  <dcterms:modified xsi:type="dcterms:W3CDTF">2010-11-13T05:43:39Z</dcterms:modified>
  <cp:revision>100</cp:revision>
  <dc:subject/>
  <dc:title>Slide 1</dc:title>
</cp:coreProperties>
</file>